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34F-833B-46D0-8F66-EDCF9B65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239-69C1-490B-BEF6-30EA2423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856-E9D5-45E5-ADB4-034E83E1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F19-B8C7-46CF-8F60-7A7E0EAE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59F-6737-49A9-BD54-3235BF20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A85-DAF3-440B-98B7-B3399A8B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FEE3-4BE7-47E6-8D30-06373AA5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661-EB0C-4C85-B864-33E8720C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E9D-84DD-424B-9285-77DEDF3C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B0B6-2DC0-40A2-9D75-2F53EE50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4DB-ECB3-4001-993C-A07738DA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82A-BF78-4156-B551-F5EB2B66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085F-019E-49EF-9859-D7871143A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the following numbers on a number 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 0, -3, -8, 4, -2,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e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review all operations with integer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e Sign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 the num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the sig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Sign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tract the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the sign of the number with the larger absolute val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23160" y="1219320"/>
            <a:ext cx="429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dding Integ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ry some togeth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5 + 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-5 + (-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-5 +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 5 + (-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8320" y="30492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review all operations with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59000" y="2320920"/>
            <a:ext cx="125280" cy="14436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6300" y="6499"/>
                </a:moveTo>
                <a:cubicBezTo>
                  <a:pt x="6358" y="6456"/>
                  <a:pt x="6473" y="6458"/>
                  <a:pt x="6548" y="6449"/>
                </a:cubicBezTo>
                <a:cubicBezTo>
                  <a:pt x="6593" y="6449"/>
                  <a:pt x="6606" y="6446"/>
                  <a:pt x="6623" y="6474"/>
                </a:cubicBezTo>
              </a:path>
              <a:path w="348" h="398">
                <a:moveTo>
                  <a:pt x="6276" y="6846"/>
                </a:moveTo>
                <a:cubicBezTo>
                  <a:pt x="6348" y="6804"/>
                  <a:pt x="6436" y="6779"/>
                  <a:pt x="6524" y="6772"/>
                </a:cubicBezTo>
                <a:cubicBezTo>
                  <a:pt x="6532" y="6772"/>
                  <a:pt x="6540" y="6772"/>
                  <a:pt x="6548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62120" y="2259000"/>
            <a:ext cx="1800" cy="250920"/>
          </a:xfrm>
          <a:custGeom>
            <a:avLst/>
            <a:gdLst/>
            <a:ahLst/>
            <a:rect l="l" t="t" r="r" b="b"/>
            <a:pathLst>
              <a:path w="1" h="695">
                <a:moveTo>
                  <a:pt x="7119" y="6276"/>
                </a:moveTo>
                <a:cubicBezTo>
                  <a:pt x="7119" y="6507"/>
                  <a:pt x="7119" y="6739"/>
                  <a:pt x="7119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24120" y="2178000"/>
            <a:ext cx="177840" cy="304920"/>
          </a:xfrm>
          <a:custGeom>
            <a:avLst/>
            <a:gdLst/>
            <a:ahLst/>
            <a:rect l="l" t="t" r="r" b="b"/>
            <a:pathLst>
              <a:path w="498" h="845">
                <a:moveTo>
                  <a:pt x="7565" y="6226"/>
                </a:moveTo>
                <a:cubicBezTo>
                  <a:pt x="7685" y="6096"/>
                  <a:pt x="7760" y="6047"/>
                  <a:pt x="7938" y="6077"/>
                </a:cubicBezTo>
                <a:cubicBezTo>
                  <a:pt x="7911" y="6258"/>
                  <a:pt x="7866" y="6329"/>
                  <a:pt x="7739" y="6474"/>
                </a:cubicBezTo>
                <a:cubicBezTo>
                  <a:pt x="7838" y="6324"/>
                  <a:pt x="7908" y="6351"/>
                  <a:pt x="8037" y="6424"/>
                </a:cubicBezTo>
                <a:cubicBezTo>
                  <a:pt x="8037" y="6634"/>
                  <a:pt x="7961" y="6760"/>
                  <a:pt x="7764" y="6871"/>
                </a:cubicBezTo>
                <a:cubicBezTo>
                  <a:pt x="7675" y="6921"/>
                  <a:pt x="7683" y="6874"/>
                  <a:pt x="7615" y="68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81880" y="2313000"/>
            <a:ext cx="204840" cy="108000"/>
          </a:xfrm>
          <a:custGeom>
            <a:avLst/>
            <a:gdLst/>
            <a:ahLst/>
            <a:rect l="l" t="t" r="r" b="b"/>
            <a:pathLst>
              <a:path w="572" h="299">
                <a:moveTo>
                  <a:pt x="18281" y="6499"/>
                </a:moveTo>
                <a:cubicBezTo>
                  <a:pt x="18429" y="6459"/>
                  <a:pt x="18575" y="6434"/>
                  <a:pt x="18728" y="6424"/>
                </a:cubicBezTo>
              </a:path>
              <a:path w="572" h="299">
                <a:moveTo>
                  <a:pt x="18331" y="6722"/>
                </a:moveTo>
                <a:cubicBezTo>
                  <a:pt x="18484" y="6693"/>
                  <a:pt x="18632" y="6661"/>
                  <a:pt x="18777" y="6672"/>
                </a:cubicBezTo>
                <a:cubicBezTo>
                  <a:pt x="18802" y="6672"/>
                  <a:pt x="18827" y="6672"/>
                  <a:pt x="18852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66000" y="2313000"/>
            <a:ext cx="133200" cy="17280"/>
          </a:xfrm>
          <a:custGeom>
            <a:avLst/>
            <a:gdLst/>
            <a:ahLst/>
            <a:rect l="l" t="t" r="r" b="b"/>
            <a:pathLst>
              <a:path w="373" h="51">
                <a:moveTo>
                  <a:pt x="19348" y="6474"/>
                </a:moveTo>
                <a:cubicBezTo>
                  <a:pt x="19467" y="6474"/>
                  <a:pt x="19578" y="6442"/>
                  <a:pt x="19695" y="6424"/>
                </a:cubicBezTo>
                <a:cubicBezTo>
                  <a:pt x="19703" y="6424"/>
                  <a:pt x="19712" y="6424"/>
                  <a:pt x="19720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96120" y="2152800"/>
            <a:ext cx="392040" cy="320400"/>
          </a:xfrm>
          <a:custGeom>
            <a:avLst/>
            <a:gdLst/>
            <a:ahLst/>
            <a:rect l="l" t="t" r="r" b="b"/>
            <a:pathLst>
              <a:path w="1093" h="894">
                <a:moveTo>
                  <a:pt x="20265" y="6251"/>
                </a:moveTo>
                <a:cubicBezTo>
                  <a:pt x="20277" y="6421"/>
                  <a:pt x="20291" y="6606"/>
                  <a:pt x="20340" y="6772"/>
                </a:cubicBezTo>
                <a:cubicBezTo>
                  <a:pt x="20373" y="6837"/>
                  <a:pt x="20390" y="6837"/>
                  <a:pt x="20414" y="6722"/>
                </a:cubicBezTo>
              </a:path>
              <a:path w="1093" h="894">
                <a:moveTo>
                  <a:pt x="20712" y="6052"/>
                </a:moveTo>
                <a:cubicBezTo>
                  <a:pt x="20824" y="6021"/>
                  <a:pt x="21128" y="5889"/>
                  <a:pt x="21134" y="6127"/>
                </a:cubicBezTo>
                <a:cubicBezTo>
                  <a:pt x="21083" y="6253"/>
                  <a:pt x="21065" y="6296"/>
                  <a:pt x="20985" y="6350"/>
                </a:cubicBezTo>
                <a:cubicBezTo>
                  <a:pt x="20968" y="6367"/>
                  <a:pt x="20952" y="6383"/>
                  <a:pt x="20935" y="6400"/>
                </a:cubicBezTo>
                <a:cubicBezTo>
                  <a:pt x="20985" y="6276"/>
                  <a:pt x="21159" y="6300"/>
                  <a:pt x="21258" y="6375"/>
                </a:cubicBezTo>
                <a:cubicBezTo>
                  <a:pt x="21524" y="6576"/>
                  <a:pt x="21214" y="6819"/>
                  <a:pt x="21010" y="6871"/>
                </a:cubicBezTo>
                <a:cubicBezTo>
                  <a:pt x="20866" y="6871"/>
                  <a:pt x="20821" y="6873"/>
                  <a:pt x="20737" y="68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51000" y="3821040"/>
            <a:ext cx="1687320" cy="1046160"/>
          </a:xfrm>
          <a:custGeom>
            <a:avLst/>
            <a:gdLst/>
            <a:ahLst/>
            <a:rect l="l" t="t" r="r" b="b"/>
            <a:pathLst>
              <a:path w="4689" h="2904">
                <a:moveTo>
                  <a:pt x="3473" y="12402"/>
                </a:moveTo>
                <a:cubicBezTo>
                  <a:pt x="3511" y="12655"/>
                  <a:pt x="3506" y="12863"/>
                  <a:pt x="3497" y="13122"/>
                </a:cubicBezTo>
                <a:cubicBezTo>
                  <a:pt x="3493" y="13246"/>
                  <a:pt x="3497" y="13519"/>
                  <a:pt x="3497" y="13395"/>
                </a:cubicBezTo>
              </a:path>
              <a:path w="4689" h="2904">
                <a:moveTo>
                  <a:pt x="4614" y="12254"/>
                </a:moveTo>
                <a:cubicBezTo>
                  <a:pt x="4638" y="12229"/>
                  <a:pt x="4646" y="12220"/>
                  <a:pt x="4663" y="12204"/>
                </a:cubicBezTo>
                <a:cubicBezTo>
                  <a:pt x="4685" y="12404"/>
                  <a:pt x="4688" y="12597"/>
                  <a:pt x="4688" y="12799"/>
                </a:cubicBezTo>
                <a:cubicBezTo>
                  <a:pt x="4688" y="12914"/>
                  <a:pt x="4713" y="13012"/>
                  <a:pt x="4713" y="13122"/>
                </a:cubicBezTo>
                <a:cubicBezTo>
                  <a:pt x="4713" y="13146"/>
                  <a:pt x="4713" y="13154"/>
                  <a:pt x="4688" y="13146"/>
                </a:cubicBezTo>
              </a:path>
              <a:path w="4689" h="2904">
                <a:moveTo>
                  <a:pt x="4192" y="11212"/>
                </a:moveTo>
                <a:cubicBezTo>
                  <a:pt x="4126" y="11322"/>
                  <a:pt x="3992" y="11347"/>
                  <a:pt x="3870" y="11385"/>
                </a:cubicBezTo>
                <a:cubicBezTo>
                  <a:pt x="3739" y="11426"/>
                  <a:pt x="3795" y="11556"/>
                  <a:pt x="3795" y="11683"/>
                </a:cubicBezTo>
                <a:cubicBezTo>
                  <a:pt x="3931" y="11637"/>
                  <a:pt x="4037" y="11523"/>
                  <a:pt x="4192" y="11633"/>
                </a:cubicBezTo>
                <a:cubicBezTo>
                  <a:pt x="4412" y="11788"/>
                  <a:pt x="4037" y="12008"/>
                  <a:pt x="3919" y="12030"/>
                </a:cubicBezTo>
                <a:cubicBezTo>
                  <a:pt x="3808" y="12030"/>
                  <a:pt x="3785" y="12057"/>
                  <a:pt x="3746" y="12005"/>
                </a:cubicBezTo>
              </a:path>
              <a:path w="4689" h="2904">
                <a:moveTo>
                  <a:pt x="5730" y="12477"/>
                </a:moveTo>
                <a:cubicBezTo>
                  <a:pt x="5754" y="12758"/>
                  <a:pt x="5719" y="13014"/>
                  <a:pt x="5705" y="13295"/>
                </a:cubicBezTo>
                <a:cubicBezTo>
                  <a:pt x="5705" y="13298"/>
                  <a:pt x="5683" y="13541"/>
                  <a:pt x="5705" y="13494"/>
                </a:cubicBezTo>
                <a:cubicBezTo>
                  <a:pt x="5730" y="13444"/>
                  <a:pt x="5754" y="13395"/>
                  <a:pt x="5779" y="13345"/>
                </a:cubicBezTo>
              </a:path>
              <a:path w="4689" h="2904">
                <a:moveTo>
                  <a:pt x="6598" y="12452"/>
                </a:moveTo>
                <a:cubicBezTo>
                  <a:pt x="6598" y="12334"/>
                  <a:pt x="6560" y="12633"/>
                  <a:pt x="6548" y="12750"/>
                </a:cubicBezTo>
                <a:cubicBezTo>
                  <a:pt x="6527" y="12951"/>
                  <a:pt x="6524" y="13144"/>
                  <a:pt x="6524" y="13345"/>
                </a:cubicBezTo>
                <a:cubicBezTo>
                  <a:pt x="6524" y="13386"/>
                  <a:pt x="6536" y="13357"/>
                  <a:pt x="6548" y="13395"/>
                </a:cubicBezTo>
              </a:path>
              <a:path w="4689" h="2904">
                <a:moveTo>
                  <a:pt x="6127" y="11212"/>
                </a:moveTo>
                <a:cubicBezTo>
                  <a:pt x="6009" y="11123"/>
                  <a:pt x="5852" y="11262"/>
                  <a:pt x="5755" y="11361"/>
                </a:cubicBezTo>
                <a:cubicBezTo>
                  <a:pt x="5695" y="11440"/>
                  <a:pt x="5670" y="11448"/>
                  <a:pt x="5680" y="11509"/>
                </a:cubicBezTo>
                <a:cubicBezTo>
                  <a:pt x="5839" y="11566"/>
                  <a:pt x="6180" y="11630"/>
                  <a:pt x="6102" y="11881"/>
                </a:cubicBezTo>
                <a:cubicBezTo>
                  <a:pt x="6077" y="11906"/>
                  <a:pt x="6053" y="11931"/>
                  <a:pt x="6028" y="11956"/>
                </a:cubicBezTo>
                <a:cubicBezTo>
                  <a:pt x="5890" y="11860"/>
                  <a:pt x="5903" y="11725"/>
                  <a:pt x="5978" y="11559"/>
                </a:cubicBezTo>
                <a:cubicBezTo>
                  <a:pt x="6019" y="11469"/>
                  <a:pt x="6127" y="11406"/>
                  <a:pt x="6127" y="11311"/>
                </a:cubicBezTo>
                <a:cubicBezTo>
                  <a:pt x="6127" y="11270"/>
                  <a:pt x="6114" y="11298"/>
                  <a:pt x="6102" y="11261"/>
                </a:cubicBezTo>
              </a:path>
              <a:path w="4689" h="2904">
                <a:moveTo>
                  <a:pt x="4986" y="11683"/>
                </a:moveTo>
                <a:cubicBezTo>
                  <a:pt x="5016" y="11729"/>
                  <a:pt x="5140" y="11708"/>
                  <a:pt x="5209" y="11708"/>
                </a:cubicBezTo>
                <a:cubicBezTo>
                  <a:pt x="5257" y="11708"/>
                  <a:pt x="5270" y="11704"/>
                  <a:pt x="5308" y="11733"/>
                </a:cubicBezTo>
              </a:path>
              <a:path w="4689" h="2904">
                <a:moveTo>
                  <a:pt x="5879" y="10889"/>
                </a:moveTo>
                <a:cubicBezTo>
                  <a:pt x="5826" y="10882"/>
                  <a:pt x="5807" y="10857"/>
                  <a:pt x="5779" y="10840"/>
                </a:cubicBezTo>
                <a:cubicBezTo>
                  <a:pt x="5723" y="10806"/>
                  <a:pt x="5699" y="10774"/>
                  <a:pt x="5631" y="10740"/>
                </a:cubicBezTo>
                <a:cubicBezTo>
                  <a:pt x="5544" y="10697"/>
                  <a:pt x="5455" y="10654"/>
                  <a:pt x="5358" y="10641"/>
                </a:cubicBezTo>
                <a:cubicBezTo>
                  <a:pt x="5259" y="10628"/>
                  <a:pt x="5158" y="10619"/>
                  <a:pt x="5060" y="10616"/>
                </a:cubicBezTo>
                <a:cubicBezTo>
                  <a:pt x="4958" y="10612"/>
                  <a:pt x="4856" y="10603"/>
                  <a:pt x="4762" y="10641"/>
                </a:cubicBezTo>
                <a:cubicBezTo>
                  <a:pt x="4704" y="10664"/>
                  <a:pt x="4653" y="10689"/>
                  <a:pt x="4589" y="10716"/>
                </a:cubicBezTo>
                <a:cubicBezTo>
                  <a:pt x="4512" y="10748"/>
                  <a:pt x="4463" y="10769"/>
                  <a:pt x="4415" y="10815"/>
                </a:cubicBezTo>
                <a:cubicBezTo>
                  <a:pt x="4391" y="10837"/>
                  <a:pt x="4374" y="10880"/>
                  <a:pt x="4341" y="10889"/>
                </a:cubicBezTo>
                <a:cubicBezTo>
                  <a:pt x="4324" y="10889"/>
                  <a:pt x="4308" y="10889"/>
                  <a:pt x="4291" y="10889"/>
                </a:cubicBezTo>
              </a:path>
              <a:path w="4689" h="2904">
                <a:moveTo>
                  <a:pt x="4291" y="10815"/>
                </a:moveTo>
                <a:cubicBezTo>
                  <a:pt x="4273" y="10838"/>
                  <a:pt x="4253" y="10930"/>
                  <a:pt x="4242" y="10988"/>
                </a:cubicBezTo>
                <a:cubicBezTo>
                  <a:pt x="4344" y="11009"/>
                  <a:pt x="4428" y="10977"/>
                  <a:pt x="4539" y="10964"/>
                </a:cubicBezTo>
              </a:path>
              <a:path w="4689" h="2904">
                <a:moveTo>
                  <a:pt x="6871" y="11534"/>
                </a:moveTo>
                <a:cubicBezTo>
                  <a:pt x="6942" y="11588"/>
                  <a:pt x="7009" y="11572"/>
                  <a:pt x="7094" y="11559"/>
                </a:cubicBezTo>
              </a:path>
              <a:path w="4689" h="2904">
                <a:moveTo>
                  <a:pt x="6871" y="11832"/>
                </a:moveTo>
                <a:cubicBezTo>
                  <a:pt x="6978" y="11798"/>
                  <a:pt x="7035" y="11782"/>
                  <a:pt x="7144" y="11782"/>
                </a:cubicBezTo>
              </a:path>
              <a:path w="4689" h="2904">
                <a:moveTo>
                  <a:pt x="7789" y="11410"/>
                </a:moveTo>
                <a:cubicBezTo>
                  <a:pt x="7915" y="11377"/>
                  <a:pt x="7946" y="11375"/>
                  <a:pt x="8086" y="11410"/>
                </a:cubicBezTo>
                <a:cubicBezTo>
                  <a:pt x="8086" y="11599"/>
                  <a:pt x="8041" y="11651"/>
                  <a:pt x="7863" y="11733"/>
                </a:cubicBezTo>
                <a:cubicBezTo>
                  <a:pt x="8010" y="11712"/>
                  <a:pt x="8249" y="11750"/>
                  <a:pt x="8161" y="11981"/>
                </a:cubicBezTo>
                <a:cubicBezTo>
                  <a:pt x="8092" y="12163"/>
                  <a:pt x="7848" y="12128"/>
                  <a:pt x="7714" y="12105"/>
                </a:cubicBezTo>
                <a:cubicBezTo>
                  <a:pt x="7706" y="12105"/>
                  <a:pt x="7697" y="12105"/>
                  <a:pt x="7689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11960" y="4626000"/>
            <a:ext cx="179280" cy="88920"/>
          </a:xfrm>
          <a:custGeom>
            <a:avLst/>
            <a:gdLst/>
            <a:ahLst/>
            <a:rect l="l" t="t" r="r" b="b"/>
            <a:pathLst>
              <a:path w="497" h="249">
                <a:moveTo>
                  <a:pt x="17810" y="12874"/>
                </a:moveTo>
                <a:cubicBezTo>
                  <a:pt x="17928" y="12863"/>
                  <a:pt x="18090" y="12810"/>
                  <a:pt x="18207" y="12849"/>
                </a:cubicBezTo>
                <a:cubicBezTo>
                  <a:pt x="18207" y="12857"/>
                  <a:pt x="18207" y="12866"/>
                  <a:pt x="18207" y="12874"/>
                </a:cubicBezTo>
              </a:path>
              <a:path w="497" h="249">
                <a:moveTo>
                  <a:pt x="17934" y="13097"/>
                </a:moveTo>
                <a:cubicBezTo>
                  <a:pt x="18062" y="13068"/>
                  <a:pt x="18176" y="13053"/>
                  <a:pt x="18306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12000" y="4537080"/>
            <a:ext cx="384120" cy="276120"/>
          </a:xfrm>
          <a:custGeom>
            <a:avLst/>
            <a:gdLst/>
            <a:ahLst/>
            <a:rect l="l" t="t" r="r" b="b"/>
            <a:pathLst>
              <a:path w="1067" h="770">
                <a:moveTo>
                  <a:pt x="19199" y="12948"/>
                </a:moveTo>
                <a:cubicBezTo>
                  <a:pt x="19307" y="12938"/>
                  <a:pt x="19413" y="12906"/>
                  <a:pt x="19521" y="12898"/>
                </a:cubicBezTo>
                <a:cubicBezTo>
                  <a:pt x="19529" y="12898"/>
                  <a:pt x="19538" y="12898"/>
                  <a:pt x="19546" y="12898"/>
                </a:cubicBezTo>
              </a:path>
              <a:path w="1067" h="770">
                <a:moveTo>
                  <a:pt x="19695" y="12650"/>
                </a:moveTo>
                <a:cubicBezTo>
                  <a:pt x="19732" y="12621"/>
                  <a:pt x="19952" y="12542"/>
                  <a:pt x="20017" y="12626"/>
                </a:cubicBezTo>
                <a:cubicBezTo>
                  <a:pt x="20079" y="12706"/>
                  <a:pt x="19954" y="12828"/>
                  <a:pt x="19918" y="12874"/>
                </a:cubicBezTo>
                <a:cubicBezTo>
                  <a:pt x="19910" y="12874"/>
                  <a:pt x="19901" y="12874"/>
                  <a:pt x="19893" y="12874"/>
                </a:cubicBezTo>
                <a:cubicBezTo>
                  <a:pt x="20002" y="12874"/>
                  <a:pt x="20089" y="12811"/>
                  <a:pt x="20191" y="12898"/>
                </a:cubicBezTo>
                <a:cubicBezTo>
                  <a:pt x="20380" y="13060"/>
                  <a:pt x="20145" y="13332"/>
                  <a:pt x="19968" y="13370"/>
                </a:cubicBezTo>
                <a:cubicBezTo>
                  <a:pt x="19928" y="13379"/>
                  <a:pt x="19806" y="13332"/>
                  <a:pt x="19794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Keep Chang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Follow rules for add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2 – 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2 + (-9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Keep Change Chan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llow addition ru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78320" y="22860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review all operations with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8840" y="609480"/>
            <a:ext cx="527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btracting Integ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54360" y="1946160"/>
            <a:ext cx="669960" cy="411120"/>
          </a:xfrm>
          <a:custGeom>
            <a:avLst/>
            <a:gdLst/>
            <a:ahLst/>
            <a:rect l="l" t="t" r="r" b="b"/>
            <a:pathLst>
              <a:path w="1862" h="1142">
                <a:moveTo>
                  <a:pt x="12650" y="5457"/>
                </a:moveTo>
                <a:cubicBezTo>
                  <a:pt x="12823" y="5515"/>
                  <a:pt x="12695" y="5796"/>
                  <a:pt x="12700" y="5978"/>
                </a:cubicBezTo>
                <a:cubicBezTo>
                  <a:pt x="12701" y="6004"/>
                  <a:pt x="12788" y="6775"/>
                  <a:pt x="12700" y="6424"/>
                </a:cubicBezTo>
              </a:path>
              <a:path w="1862" h="1142">
                <a:moveTo>
                  <a:pt x="13097" y="5507"/>
                </a:moveTo>
                <a:cubicBezTo>
                  <a:pt x="12985" y="5718"/>
                  <a:pt x="12887" y="5874"/>
                  <a:pt x="12725" y="6052"/>
                </a:cubicBezTo>
                <a:cubicBezTo>
                  <a:pt x="12863" y="5876"/>
                  <a:pt x="13016" y="6067"/>
                  <a:pt x="13122" y="6226"/>
                </a:cubicBezTo>
                <a:cubicBezTo>
                  <a:pt x="13183" y="6349"/>
                  <a:pt x="13198" y="6370"/>
                  <a:pt x="13221" y="6449"/>
                </a:cubicBezTo>
              </a:path>
              <a:path w="1862" h="1142">
                <a:moveTo>
                  <a:pt x="13618" y="5631"/>
                </a:moveTo>
                <a:cubicBezTo>
                  <a:pt x="13618" y="5775"/>
                  <a:pt x="13552" y="5554"/>
                  <a:pt x="13444" y="5482"/>
                </a:cubicBezTo>
                <a:cubicBezTo>
                  <a:pt x="13322" y="5753"/>
                  <a:pt x="13151" y="6177"/>
                  <a:pt x="13444" y="6424"/>
                </a:cubicBezTo>
                <a:cubicBezTo>
                  <a:pt x="13585" y="6543"/>
                  <a:pt x="13773" y="6434"/>
                  <a:pt x="13891" y="6350"/>
                </a:cubicBezTo>
              </a:path>
              <a:path w="1862" h="1142">
                <a:moveTo>
                  <a:pt x="14312" y="5655"/>
                </a:moveTo>
                <a:cubicBezTo>
                  <a:pt x="14312" y="5871"/>
                  <a:pt x="14257" y="5574"/>
                  <a:pt x="14188" y="5482"/>
                </a:cubicBezTo>
                <a:cubicBezTo>
                  <a:pt x="14163" y="5457"/>
                  <a:pt x="14139" y="5432"/>
                  <a:pt x="14114" y="5407"/>
                </a:cubicBezTo>
                <a:cubicBezTo>
                  <a:pt x="13909" y="5543"/>
                  <a:pt x="13847" y="5906"/>
                  <a:pt x="13915" y="6152"/>
                </a:cubicBezTo>
                <a:cubicBezTo>
                  <a:pt x="14007" y="6483"/>
                  <a:pt x="14320" y="6321"/>
                  <a:pt x="14511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30720" y="3902040"/>
            <a:ext cx="982440" cy="312840"/>
          </a:xfrm>
          <a:custGeom>
            <a:avLst/>
            <a:gdLst/>
            <a:ahLst/>
            <a:rect l="l" t="t" r="r" b="b"/>
            <a:pathLst>
              <a:path w="2730" h="869">
                <a:moveTo>
                  <a:pt x="9252" y="11435"/>
                </a:moveTo>
                <a:cubicBezTo>
                  <a:pt x="9319" y="11368"/>
                  <a:pt x="9595" y="11387"/>
                  <a:pt x="9699" y="11385"/>
                </a:cubicBezTo>
                <a:cubicBezTo>
                  <a:pt x="9814" y="11385"/>
                  <a:pt x="9831" y="11385"/>
                  <a:pt x="9897" y="11385"/>
                </a:cubicBezTo>
              </a:path>
              <a:path w="2730" h="869">
                <a:moveTo>
                  <a:pt x="10220" y="11013"/>
                </a:moveTo>
                <a:cubicBezTo>
                  <a:pt x="10373" y="10877"/>
                  <a:pt x="10469" y="10858"/>
                  <a:pt x="10666" y="10840"/>
                </a:cubicBezTo>
                <a:cubicBezTo>
                  <a:pt x="10727" y="11144"/>
                  <a:pt x="10565" y="11339"/>
                  <a:pt x="10368" y="11584"/>
                </a:cubicBezTo>
                <a:cubicBezTo>
                  <a:pt x="10310" y="11642"/>
                  <a:pt x="10269" y="11683"/>
                  <a:pt x="10319" y="11633"/>
                </a:cubicBezTo>
                <a:cubicBezTo>
                  <a:pt x="10490" y="11573"/>
                  <a:pt x="10632" y="11540"/>
                  <a:pt x="10815" y="11534"/>
                </a:cubicBezTo>
                <a:cubicBezTo>
                  <a:pt x="10894" y="11532"/>
                  <a:pt x="10839" y="11542"/>
                  <a:pt x="10889" y="11559"/>
                </a:cubicBezTo>
              </a:path>
              <a:path w="2730" h="869">
                <a:moveTo>
                  <a:pt x="11187" y="11187"/>
                </a:moveTo>
                <a:cubicBezTo>
                  <a:pt x="11357" y="11216"/>
                  <a:pt x="11507" y="11172"/>
                  <a:pt x="11683" y="11162"/>
                </a:cubicBezTo>
                <a:cubicBezTo>
                  <a:pt x="11726" y="11159"/>
                  <a:pt x="11962" y="11131"/>
                  <a:pt x="11981" y="11187"/>
                </a:cubicBezTo>
              </a:path>
              <a:path w="2730" h="869">
                <a:moveTo>
                  <a:pt x="11609" y="10889"/>
                </a:moveTo>
                <a:cubicBezTo>
                  <a:pt x="11609" y="10788"/>
                  <a:pt x="11592" y="11037"/>
                  <a:pt x="11584" y="11137"/>
                </a:cubicBezTo>
                <a:cubicBezTo>
                  <a:pt x="11577" y="11229"/>
                  <a:pt x="11539" y="11679"/>
                  <a:pt x="11559" y="11683"/>
                </a:cubicBezTo>
                <a:cubicBezTo>
                  <a:pt x="11567" y="11683"/>
                  <a:pt x="11576" y="11683"/>
                  <a:pt x="11584" y="11683"/>
                </a:cubicBezTo>
              </a:path>
              <a:path w="2730" h="869">
                <a:moveTo>
                  <a:pt x="11584" y="11683"/>
                </a:moveTo>
                <a:lnTo>
                  <a:pt x="11584" y="11683"/>
                </a:lnTo>
              </a:path>
              <a:path w="2730" h="869">
                <a:moveTo>
                  <a:pt x="11584" y="11683"/>
                </a:moveTo>
                <a:lnTo>
                  <a:pt x="11584" y="11683"/>
                </a:lnTo>
              </a:path>
              <a:path w="2730" h="869">
                <a:moveTo>
                  <a:pt x="11584" y="11683"/>
                </a:moveTo>
                <a:cubicBezTo>
                  <a:pt x="11584" y="11691"/>
                  <a:pt x="11584" y="11700"/>
                  <a:pt x="11584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54360" y="3875040"/>
            <a:ext cx="374760" cy="349200"/>
          </a:xfrm>
          <a:custGeom>
            <a:avLst/>
            <a:gdLst/>
            <a:ahLst/>
            <a:rect l="l" t="t" r="r" b="b"/>
            <a:pathLst>
              <a:path w="1043" h="969">
                <a:moveTo>
                  <a:pt x="12675" y="11261"/>
                </a:moveTo>
                <a:cubicBezTo>
                  <a:pt x="12592" y="11261"/>
                  <a:pt x="12792" y="11270"/>
                  <a:pt x="12874" y="11261"/>
                </a:cubicBezTo>
                <a:cubicBezTo>
                  <a:pt x="12952" y="11252"/>
                  <a:pt x="12999" y="11237"/>
                  <a:pt x="13072" y="11237"/>
                </a:cubicBezTo>
              </a:path>
              <a:path w="1043" h="969">
                <a:moveTo>
                  <a:pt x="13667" y="11013"/>
                </a:moveTo>
                <a:cubicBezTo>
                  <a:pt x="13628" y="10909"/>
                  <a:pt x="13583" y="10799"/>
                  <a:pt x="13469" y="10765"/>
                </a:cubicBezTo>
                <a:cubicBezTo>
                  <a:pt x="13444" y="10765"/>
                  <a:pt x="13420" y="10765"/>
                  <a:pt x="13395" y="10765"/>
                </a:cubicBezTo>
                <a:cubicBezTo>
                  <a:pt x="13314" y="10886"/>
                  <a:pt x="13208" y="11080"/>
                  <a:pt x="13419" y="11162"/>
                </a:cubicBezTo>
                <a:cubicBezTo>
                  <a:pt x="13568" y="11220"/>
                  <a:pt x="13657" y="11080"/>
                  <a:pt x="13667" y="10964"/>
                </a:cubicBezTo>
                <a:cubicBezTo>
                  <a:pt x="13667" y="10947"/>
                  <a:pt x="13667" y="10931"/>
                  <a:pt x="13667" y="10914"/>
                </a:cubicBezTo>
                <a:cubicBezTo>
                  <a:pt x="13725" y="10799"/>
                  <a:pt x="13650" y="11108"/>
                  <a:pt x="13643" y="11237"/>
                </a:cubicBezTo>
                <a:cubicBezTo>
                  <a:pt x="13634" y="11401"/>
                  <a:pt x="13643" y="11568"/>
                  <a:pt x="13643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05240" y="4027320"/>
            <a:ext cx="152640" cy="125640"/>
          </a:xfrm>
          <a:custGeom>
            <a:avLst/>
            <a:gdLst/>
            <a:ahLst/>
            <a:rect l="l" t="t" r="r" b="b"/>
            <a:pathLst>
              <a:path w="423" h="348">
                <a:moveTo>
                  <a:pt x="14461" y="11212"/>
                </a:moveTo>
                <a:cubicBezTo>
                  <a:pt x="14475" y="11169"/>
                  <a:pt x="14530" y="11187"/>
                  <a:pt x="14585" y="11187"/>
                </a:cubicBezTo>
                <a:cubicBezTo>
                  <a:pt x="14684" y="11187"/>
                  <a:pt x="14784" y="11187"/>
                  <a:pt x="14883" y="11187"/>
                </a:cubicBezTo>
              </a:path>
              <a:path w="423" h="348">
                <a:moveTo>
                  <a:pt x="14511" y="11534"/>
                </a:moveTo>
                <a:cubicBezTo>
                  <a:pt x="14637" y="11507"/>
                  <a:pt x="14755" y="11460"/>
                  <a:pt x="14883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54800" y="3938760"/>
            <a:ext cx="482400" cy="276120"/>
          </a:xfrm>
          <a:custGeom>
            <a:avLst/>
            <a:gdLst/>
            <a:ahLst/>
            <a:rect l="l" t="t" r="r" b="b"/>
            <a:pathLst>
              <a:path w="1340" h="770">
                <a:moveTo>
                  <a:pt x="15429" y="11311"/>
                </a:moveTo>
                <a:cubicBezTo>
                  <a:pt x="15445" y="11261"/>
                  <a:pt x="15546" y="11286"/>
                  <a:pt x="15602" y="11286"/>
                </a:cubicBezTo>
                <a:cubicBezTo>
                  <a:pt x="15676" y="11286"/>
                  <a:pt x="15751" y="11286"/>
                  <a:pt x="15825" y="11286"/>
                </a:cubicBezTo>
              </a:path>
              <a:path w="1340" h="770">
                <a:moveTo>
                  <a:pt x="16371" y="10939"/>
                </a:moveTo>
                <a:cubicBezTo>
                  <a:pt x="16354" y="11154"/>
                  <a:pt x="16312" y="11368"/>
                  <a:pt x="16297" y="11584"/>
                </a:cubicBezTo>
                <a:cubicBezTo>
                  <a:pt x="16297" y="11625"/>
                  <a:pt x="16297" y="11667"/>
                  <a:pt x="16297" y="11708"/>
                </a:cubicBezTo>
              </a:path>
              <a:path w="1340" h="770">
                <a:moveTo>
                  <a:pt x="16768" y="10988"/>
                </a:moveTo>
                <a:cubicBezTo>
                  <a:pt x="16759" y="11212"/>
                  <a:pt x="16743" y="11433"/>
                  <a:pt x="16743" y="11658"/>
                </a:cubicBezTo>
                <a:cubicBezTo>
                  <a:pt x="16743" y="11666"/>
                  <a:pt x="16743" y="11675"/>
                  <a:pt x="16743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ry some togeth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-2 – (-9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-5 -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3 -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 3 – (-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7720" y="19224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review all operations with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47880" y="2214720"/>
            <a:ext cx="27000" cy="196560"/>
          </a:xfrm>
          <a:custGeom>
            <a:avLst/>
            <a:gdLst/>
            <a:ahLst/>
            <a:rect l="l" t="t" r="r" b="b"/>
            <a:pathLst>
              <a:path w="75" h="546">
                <a:moveTo>
                  <a:pt x="5159" y="6176"/>
                </a:moveTo>
                <a:cubicBezTo>
                  <a:pt x="5159" y="6168"/>
                  <a:pt x="5159" y="6160"/>
                  <a:pt x="5159" y="6152"/>
                </a:cubicBezTo>
                <a:cubicBezTo>
                  <a:pt x="5124" y="6176"/>
                  <a:pt x="5135" y="6220"/>
                  <a:pt x="5135" y="6276"/>
                </a:cubicBezTo>
                <a:cubicBezTo>
                  <a:pt x="5135" y="6320"/>
                  <a:pt x="5159" y="6353"/>
                  <a:pt x="5159" y="6400"/>
                </a:cubicBezTo>
                <a:cubicBezTo>
                  <a:pt x="5159" y="6453"/>
                  <a:pt x="5181" y="6469"/>
                  <a:pt x="5184" y="6524"/>
                </a:cubicBezTo>
                <a:cubicBezTo>
                  <a:pt x="5187" y="6578"/>
                  <a:pt x="5209" y="6594"/>
                  <a:pt x="5209" y="6648"/>
                </a:cubicBezTo>
                <a:cubicBezTo>
                  <a:pt x="5209" y="6672"/>
                  <a:pt x="5209" y="6681"/>
                  <a:pt x="5209" y="66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2232000"/>
            <a:ext cx="9720" cy="169920"/>
          </a:xfrm>
          <a:custGeom>
            <a:avLst/>
            <a:gdLst/>
            <a:ahLst/>
            <a:rect l="l" t="t" r="r" b="b"/>
            <a:pathLst>
              <a:path w="26" h="472">
                <a:moveTo>
                  <a:pt x="6325" y="6226"/>
                </a:moveTo>
                <a:cubicBezTo>
                  <a:pt x="6325" y="6201"/>
                  <a:pt x="6325" y="6193"/>
                  <a:pt x="6300" y="6201"/>
                </a:cubicBezTo>
                <a:cubicBezTo>
                  <a:pt x="6300" y="6358"/>
                  <a:pt x="6300" y="6515"/>
                  <a:pt x="6300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95760" y="2303640"/>
            <a:ext cx="142560" cy="98280"/>
          </a:xfrm>
          <a:custGeom>
            <a:avLst/>
            <a:gdLst/>
            <a:ahLst/>
            <a:rect l="l" t="t" r="r" b="b"/>
            <a:pathLst>
              <a:path w="398" h="273">
                <a:moveTo>
                  <a:pt x="7863" y="6449"/>
                </a:moveTo>
                <a:cubicBezTo>
                  <a:pt x="7892" y="6420"/>
                  <a:pt x="8040" y="6385"/>
                  <a:pt x="8111" y="6400"/>
                </a:cubicBezTo>
                <a:cubicBezTo>
                  <a:pt x="8119" y="6408"/>
                  <a:pt x="8128" y="6416"/>
                  <a:pt x="8136" y="6424"/>
                </a:cubicBezTo>
              </a:path>
              <a:path w="398" h="273">
                <a:moveTo>
                  <a:pt x="7764" y="6672"/>
                </a:moveTo>
                <a:cubicBezTo>
                  <a:pt x="7898" y="6651"/>
                  <a:pt x="8030" y="6631"/>
                  <a:pt x="8161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52880" y="2143080"/>
            <a:ext cx="152280" cy="322200"/>
          </a:xfrm>
          <a:custGeom>
            <a:avLst/>
            <a:gdLst/>
            <a:ahLst/>
            <a:rect l="l" t="t" r="r" b="b"/>
            <a:pathLst>
              <a:path w="423" h="894">
                <a:moveTo>
                  <a:pt x="8781" y="6077"/>
                </a:moveTo>
                <a:cubicBezTo>
                  <a:pt x="8770" y="6162"/>
                  <a:pt x="8761" y="6240"/>
                  <a:pt x="8756" y="6325"/>
                </a:cubicBezTo>
                <a:cubicBezTo>
                  <a:pt x="8756" y="6397"/>
                  <a:pt x="8801" y="6084"/>
                  <a:pt x="8806" y="6052"/>
                </a:cubicBezTo>
                <a:cubicBezTo>
                  <a:pt x="8806" y="6044"/>
                  <a:pt x="8806" y="6036"/>
                  <a:pt x="8806" y="6028"/>
                </a:cubicBezTo>
                <a:cubicBezTo>
                  <a:pt x="8920" y="6028"/>
                  <a:pt x="8995" y="5998"/>
                  <a:pt x="9103" y="5978"/>
                </a:cubicBezTo>
                <a:cubicBezTo>
                  <a:pt x="9145" y="5978"/>
                  <a:pt x="9161" y="5986"/>
                  <a:pt x="9153" y="5953"/>
                </a:cubicBezTo>
                <a:cubicBezTo>
                  <a:pt x="9134" y="6193"/>
                  <a:pt x="8930" y="6519"/>
                  <a:pt x="8830" y="6772"/>
                </a:cubicBezTo>
                <a:cubicBezTo>
                  <a:pt x="8809" y="6825"/>
                  <a:pt x="8785" y="6831"/>
                  <a:pt x="8830" y="68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67320" y="2062080"/>
            <a:ext cx="231840" cy="358920"/>
          </a:xfrm>
          <a:custGeom>
            <a:avLst/>
            <a:gdLst/>
            <a:ahLst/>
            <a:rect l="l" t="t" r="r" b="b"/>
            <a:pathLst>
              <a:path w="646" h="993">
                <a:moveTo>
                  <a:pt x="17785" y="6226"/>
                </a:moveTo>
                <a:cubicBezTo>
                  <a:pt x="17785" y="6149"/>
                  <a:pt x="17752" y="6324"/>
                  <a:pt x="17735" y="6400"/>
                </a:cubicBezTo>
                <a:cubicBezTo>
                  <a:pt x="17712" y="6501"/>
                  <a:pt x="17686" y="6617"/>
                  <a:pt x="17686" y="6722"/>
                </a:cubicBezTo>
              </a:path>
              <a:path w="646" h="993">
                <a:moveTo>
                  <a:pt x="18083" y="5804"/>
                </a:moveTo>
                <a:cubicBezTo>
                  <a:pt x="18162" y="5791"/>
                  <a:pt x="18229" y="5743"/>
                  <a:pt x="18306" y="5730"/>
                </a:cubicBezTo>
                <a:cubicBezTo>
                  <a:pt x="18314" y="5730"/>
                  <a:pt x="18323" y="5730"/>
                  <a:pt x="18331" y="57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2295360"/>
            <a:ext cx="179280" cy="61920"/>
          </a:xfrm>
          <a:custGeom>
            <a:avLst/>
            <a:gdLst/>
            <a:ahLst/>
            <a:rect l="l" t="t" r="r" b="b"/>
            <a:pathLst>
              <a:path w="497" h="174">
                <a:moveTo>
                  <a:pt x="19075" y="6424"/>
                </a:moveTo>
                <a:cubicBezTo>
                  <a:pt x="19181" y="6400"/>
                  <a:pt x="19325" y="6346"/>
                  <a:pt x="19397" y="6400"/>
                </a:cubicBezTo>
              </a:path>
              <a:path w="497" h="174">
                <a:moveTo>
                  <a:pt x="19050" y="6548"/>
                </a:moveTo>
                <a:cubicBezTo>
                  <a:pt x="19221" y="6542"/>
                  <a:pt x="19378" y="6528"/>
                  <a:pt x="19546" y="64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42120" y="2170080"/>
            <a:ext cx="642960" cy="250920"/>
          </a:xfrm>
          <a:custGeom>
            <a:avLst/>
            <a:gdLst/>
            <a:ahLst/>
            <a:rect l="l" t="t" r="r" b="b"/>
            <a:pathLst>
              <a:path w="1787" h="695">
                <a:moveTo>
                  <a:pt x="20117" y="6424"/>
                </a:moveTo>
                <a:cubicBezTo>
                  <a:pt x="20259" y="6384"/>
                  <a:pt x="20390" y="6375"/>
                  <a:pt x="20538" y="6375"/>
                </a:cubicBezTo>
              </a:path>
              <a:path w="1787" h="695">
                <a:moveTo>
                  <a:pt x="20960" y="6127"/>
                </a:moveTo>
                <a:cubicBezTo>
                  <a:pt x="20940" y="6290"/>
                  <a:pt x="20887" y="6442"/>
                  <a:pt x="20836" y="6598"/>
                </a:cubicBezTo>
                <a:cubicBezTo>
                  <a:pt x="20823" y="6639"/>
                  <a:pt x="20811" y="6715"/>
                  <a:pt x="20811" y="6672"/>
                </a:cubicBezTo>
              </a:path>
              <a:path w="1787" h="695">
                <a:moveTo>
                  <a:pt x="21332" y="6127"/>
                </a:moveTo>
                <a:cubicBezTo>
                  <a:pt x="21353" y="6063"/>
                  <a:pt x="21484" y="6039"/>
                  <a:pt x="21555" y="6028"/>
                </a:cubicBezTo>
                <a:cubicBezTo>
                  <a:pt x="21616" y="6028"/>
                  <a:pt x="21632" y="6018"/>
                  <a:pt x="21654" y="6052"/>
                </a:cubicBezTo>
                <a:cubicBezTo>
                  <a:pt x="21610" y="6316"/>
                  <a:pt x="21474" y="6415"/>
                  <a:pt x="21282" y="6598"/>
                </a:cubicBezTo>
                <a:cubicBezTo>
                  <a:pt x="21208" y="6672"/>
                  <a:pt x="21199" y="6681"/>
                  <a:pt x="21158" y="6722"/>
                </a:cubicBezTo>
                <a:cubicBezTo>
                  <a:pt x="21247" y="6634"/>
                  <a:pt x="21326" y="6565"/>
                  <a:pt x="21431" y="6499"/>
                </a:cubicBezTo>
                <a:cubicBezTo>
                  <a:pt x="21545" y="6669"/>
                  <a:pt x="21578" y="6688"/>
                  <a:pt x="21779" y="6573"/>
                </a:cubicBezTo>
                <a:cubicBezTo>
                  <a:pt x="21838" y="6540"/>
                  <a:pt x="21985" y="6465"/>
                  <a:pt x="21828" y="65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60680" y="3894120"/>
            <a:ext cx="161640" cy="285840"/>
          </a:xfrm>
          <a:custGeom>
            <a:avLst/>
            <a:gdLst/>
            <a:ahLst/>
            <a:rect l="l" t="t" r="r" b="b"/>
            <a:pathLst>
              <a:path w="447" h="795">
                <a:moveTo>
                  <a:pt x="4688" y="11112"/>
                </a:moveTo>
                <a:cubicBezTo>
                  <a:pt x="4688" y="11088"/>
                  <a:pt x="4688" y="11079"/>
                  <a:pt x="4688" y="11063"/>
                </a:cubicBezTo>
                <a:cubicBezTo>
                  <a:pt x="4631" y="11158"/>
                  <a:pt x="4641" y="11297"/>
                  <a:pt x="4638" y="11410"/>
                </a:cubicBezTo>
                <a:cubicBezTo>
                  <a:pt x="4636" y="11487"/>
                  <a:pt x="4626" y="11537"/>
                  <a:pt x="4614" y="11609"/>
                </a:cubicBezTo>
              </a:path>
              <a:path w="447" h="795">
                <a:moveTo>
                  <a:pt x="4911" y="10840"/>
                </a:moveTo>
                <a:cubicBezTo>
                  <a:pt x="4903" y="10840"/>
                  <a:pt x="4895" y="10840"/>
                  <a:pt x="4887" y="10840"/>
                </a:cubicBezTo>
                <a:cubicBezTo>
                  <a:pt x="4933" y="10804"/>
                  <a:pt x="4971" y="10815"/>
                  <a:pt x="5035" y="10815"/>
                </a:cubicBezTo>
                <a:cubicBezTo>
                  <a:pt x="5043" y="10815"/>
                  <a:pt x="5052" y="10815"/>
                  <a:pt x="5060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41720" y="4027320"/>
            <a:ext cx="71280" cy="108000"/>
          </a:xfrm>
          <a:custGeom>
            <a:avLst/>
            <a:gdLst/>
            <a:ahLst/>
            <a:rect l="l" t="t" r="r" b="b"/>
            <a:pathLst>
              <a:path w="199" h="299">
                <a:moveTo>
                  <a:pt x="6251" y="11187"/>
                </a:moveTo>
                <a:cubicBezTo>
                  <a:pt x="6301" y="11187"/>
                  <a:pt x="6350" y="11187"/>
                  <a:pt x="6400" y="11187"/>
                </a:cubicBezTo>
              </a:path>
              <a:path w="199" h="299">
                <a:moveTo>
                  <a:pt x="6226" y="11460"/>
                </a:moveTo>
                <a:cubicBezTo>
                  <a:pt x="6303" y="11475"/>
                  <a:pt x="6348" y="11485"/>
                  <a:pt x="6424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62120" y="3867120"/>
            <a:ext cx="411120" cy="293760"/>
          </a:xfrm>
          <a:custGeom>
            <a:avLst/>
            <a:gdLst/>
            <a:ahLst/>
            <a:rect l="l" t="t" r="r" b="b"/>
            <a:pathLst>
              <a:path w="1142" h="820">
                <a:moveTo>
                  <a:pt x="7119" y="11137"/>
                </a:moveTo>
                <a:cubicBezTo>
                  <a:pt x="7225" y="11083"/>
                  <a:pt x="7366" y="11075"/>
                  <a:pt x="7491" y="11063"/>
                </a:cubicBezTo>
              </a:path>
              <a:path w="1142" h="820">
                <a:moveTo>
                  <a:pt x="7714" y="10815"/>
                </a:moveTo>
                <a:cubicBezTo>
                  <a:pt x="7750" y="10760"/>
                  <a:pt x="7875" y="10732"/>
                  <a:pt x="7962" y="10740"/>
                </a:cubicBezTo>
                <a:cubicBezTo>
                  <a:pt x="7987" y="10748"/>
                  <a:pt x="8012" y="10757"/>
                  <a:pt x="8037" y="10765"/>
                </a:cubicBezTo>
                <a:cubicBezTo>
                  <a:pt x="8055" y="11030"/>
                  <a:pt x="7877" y="11146"/>
                  <a:pt x="7739" y="11361"/>
                </a:cubicBezTo>
                <a:cubicBezTo>
                  <a:pt x="7679" y="11481"/>
                  <a:pt x="7677" y="11508"/>
                  <a:pt x="7615" y="11559"/>
                </a:cubicBezTo>
                <a:cubicBezTo>
                  <a:pt x="7668" y="11499"/>
                  <a:pt x="7787" y="11394"/>
                  <a:pt x="7888" y="11435"/>
                </a:cubicBezTo>
                <a:cubicBezTo>
                  <a:pt x="7999" y="11481"/>
                  <a:pt x="8051" y="11554"/>
                  <a:pt x="8186" y="11559"/>
                </a:cubicBezTo>
                <a:cubicBezTo>
                  <a:pt x="8211" y="11559"/>
                  <a:pt x="8235" y="11559"/>
                  <a:pt x="8260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48160" y="3990960"/>
            <a:ext cx="19080" cy="169920"/>
          </a:xfrm>
          <a:custGeom>
            <a:avLst/>
            <a:gdLst/>
            <a:ahLst/>
            <a:rect l="l" t="t" r="r" b="b"/>
            <a:pathLst>
              <a:path w="51" h="472">
                <a:moveTo>
                  <a:pt x="14883" y="11187"/>
                </a:moveTo>
                <a:cubicBezTo>
                  <a:pt x="14883" y="11151"/>
                  <a:pt x="14881" y="11063"/>
                  <a:pt x="14908" y="11088"/>
                </a:cubicBezTo>
                <a:cubicBezTo>
                  <a:pt x="14958" y="11134"/>
                  <a:pt x="14865" y="11375"/>
                  <a:pt x="14858" y="11435"/>
                </a:cubicBezTo>
                <a:cubicBezTo>
                  <a:pt x="14854" y="11473"/>
                  <a:pt x="14858" y="11519"/>
                  <a:pt x="14858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69000" y="3983040"/>
            <a:ext cx="9360" cy="177840"/>
          </a:xfrm>
          <a:custGeom>
            <a:avLst/>
            <a:gdLst/>
            <a:ahLst/>
            <a:rect l="l" t="t" r="r" b="b"/>
            <a:pathLst>
              <a:path w="26" h="497">
                <a:moveTo>
                  <a:pt x="16049" y="11112"/>
                </a:moveTo>
                <a:cubicBezTo>
                  <a:pt x="16049" y="11088"/>
                  <a:pt x="16049" y="11079"/>
                  <a:pt x="16049" y="11063"/>
                </a:cubicBezTo>
                <a:cubicBezTo>
                  <a:pt x="16006" y="11077"/>
                  <a:pt x="16024" y="11132"/>
                  <a:pt x="16024" y="11187"/>
                </a:cubicBezTo>
                <a:cubicBezTo>
                  <a:pt x="16024" y="11269"/>
                  <a:pt x="16028" y="11317"/>
                  <a:pt x="16049" y="11385"/>
                </a:cubicBezTo>
                <a:cubicBezTo>
                  <a:pt x="16064" y="11434"/>
                  <a:pt x="16049" y="11506"/>
                  <a:pt x="16049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75240" y="4098960"/>
            <a:ext cx="81000" cy="98280"/>
          </a:xfrm>
          <a:custGeom>
            <a:avLst/>
            <a:gdLst/>
            <a:ahLst/>
            <a:rect l="l" t="t" r="r" b="b"/>
            <a:pathLst>
              <a:path w="224" h="274">
                <a:moveTo>
                  <a:pt x="17711" y="11410"/>
                </a:moveTo>
                <a:cubicBezTo>
                  <a:pt x="17740" y="11410"/>
                  <a:pt x="17931" y="11384"/>
                  <a:pt x="17934" y="11385"/>
                </a:cubicBezTo>
                <a:cubicBezTo>
                  <a:pt x="17934" y="11393"/>
                  <a:pt x="17934" y="11402"/>
                  <a:pt x="17934" y="11410"/>
                </a:cubicBezTo>
              </a:path>
              <a:path w="224" h="274">
                <a:moveTo>
                  <a:pt x="17735" y="11633"/>
                </a:moveTo>
                <a:cubicBezTo>
                  <a:pt x="17796" y="11645"/>
                  <a:pt x="17842" y="11658"/>
                  <a:pt x="17909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16800" y="3973680"/>
            <a:ext cx="179280" cy="295200"/>
          </a:xfrm>
          <a:custGeom>
            <a:avLst/>
            <a:gdLst/>
            <a:ahLst/>
            <a:rect l="l" t="t" r="r" b="b"/>
            <a:pathLst>
              <a:path w="497" h="820">
                <a:moveTo>
                  <a:pt x="18380" y="11063"/>
                </a:moveTo>
                <a:cubicBezTo>
                  <a:pt x="18380" y="11121"/>
                  <a:pt x="18380" y="11179"/>
                  <a:pt x="18380" y="11237"/>
                </a:cubicBezTo>
                <a:cubicBezTo>
                  <a:pt x="18442" y="11188"/>
                  <a:pt x="18448" y="11098"/>
                  <a:pt x="18554" y="11088"/>
                </a:cubicBezTo>
                <a:cubicBezTo>
                  <a:pt x="18630" y="11081"/>
                  <a:pt x="18831" y="11040"/>
                  <a:pt x="18876" y="11063"/>
                </a:cubicBezTo>
                <a:cubicBezTo>
                  <a:pt x="18796" y="11291"/>
                  <a:pt x="18738" y="11524"/>
                  <a:pt x="18678" y="11757"/>
                </a:cubicBezTo>
                <a:cubicBezTo>
                  <a:pt x="18659" y="11815"/>
                  <a:pt x="18650" y="11822"/>
                  <a:pt x="18653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Rules: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Same Signs (Even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swer is Positiv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fferent signs (Odd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swer is Negativ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5120" y="26028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review all operations with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2280" y="950760"/>
            <a:ext cx="75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ing Inte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99080" y="2544840"/>
            <a:ext cx="2125800" cy="527040"/>
          </a:xfrm>
          <a:custGeom>
            <a:avLst/>
            <a:gdLst/>
            <a:ahLst/>
            <a:rect l="l" t="t" r="r" b="b"/>
            <a:pathLst>
              <a:path w="5904" h="1465">
                <a:moveTo>
                  <a:pt x="15875" y="8037"/>
                </a:moveTo>
                <a:cubicBezTo>
                  <a:pt x="16016" y="7993"/>
                  <a:pt x="16220" y="7947"/>
                  <a:pt x="16371" y="7987"/>
                </a:cubicBezTo>
                <a:cubicBezTo>
                  <a:pt x="16371" y="7995"/>
                  <a:pt x="16371" y="8004"/>
                  <a:pt x="16371" y="8012"/>
                </a:cubicBezTo>
              </a:path>
              <a:path w="5904" h="1465">
                <a:moveTo>
                  <a:pt x="16421" y="7615"/>
                </a:moveTo>
                <a:cubicBezTo>
                  <a:pt x="16575" y="7563"/>
                  <a:pt x="16729" y="7545"/>
                  <a:pt x="16892" y="7541"/>
                </a:cubicBezTo>
                <a:cubicBezTo>
                  <a:pt x="16950" y="7541"/>
                  <a:pt x="16958" y="7541"/>
                  <a:pt x="16991" y="7541"/>
                </a:cubicBezTo>
                <a:cubicBezTo>
                  <a:pt x="16991" y="7757"/>
                  <a:pt x="16879" y="7899"/>
                  <a:pt x="16793" y="8086"/>
                </a:cubicBezTo>
                <a:cubicBezTo>
                  <a:pt x="16740" y="8201"/>
                  <a:pt x="16710" y="8267"/>
                  <a:pt x="16694" y="8384"/>
                </a:cubicBezTo>
              </a:path>
              <a:path w="5904" h="1465">
                <a:moveTo>
                  <a:pt x="17363" y="7392"/>
                </a:moveTo>
                <a:cubicBezTo>
                  <a:pt x="17474" y="7836"/>
                  <a:pt x="17594" y="8150"/>
                  <a:pt x="17165" y="8458"/>
                </a:cubicBezTo>
                <a:cubicBezTo>
                  <a:pt x="17107" y="8483"/>
                  <a:pt x="17049" y="8508"/>
                  <a:pt x="16991" y="8533"/>
                </a:cubicBezTo>
              </a:path>
              <a:path w="5904" h="1465">
                <a:moveTo>
                  <a:pt x="15925" y="7193"/>
                </a:moveTo>
                <a:cubicBezTo>
                  <a:pt x="15720" y="7408"/>
                  <a:pt x="15603" y="7582"/>
                  <a:pt x="15553" y="7913"/>
                </a:cubicBezTo>
                <a:cubicBezTo>
                  <a:pt x="15458" y="8544"/>
                  <a:pt x="15950" y="8508"/>
                  <a:pt x="16396" y="8483"/>
                </a:cubicBezTo>
              </a:path>
              <a:path w="5904" h="1465">
                <a:moveTo>
                  <a:pt x="17934" y="7193"/>
                </a:moveTo>
                <a:cubicBezTo>
                  <a:pt x="17877" y="7356"/>
                  <a:pt x="17764" y="7691"/>
                  <a:pt x="17735" y="7888"/>
                </a:cubicBezTo>
                <a:cubicBezTo>
                  <a:pt x="17703" y="8106"/>
                  <a:pt x="17871" y="8409"/>
                  <a:pt x="18132" y="8409"/>
                </a:cubicBezTo>
                <a:cubicBezTo>
                  <a:pt x="18173" y="8392"/>
                  <a:pt x="18215" y="8376"/>
                  <a:pt x="18256" y="8359"/>
                </a:cubicBezTo>
              </a:path>
              <a:path w="5904" h="1465">
                <a:moveTo>
                  <a:pt x="18554" y="7491"/>
                </a:moveTo>
                <a:cubicBezTo>
                  <a:pt x="18466" y="7491"/>
                  <a:pt x="18464" y="7478"/>
                  <a:pt x="18405" y="7565"/>
                </a:cubicBezTo>
                <a:cubicBezTo>
                  <a:pt x="18342" y="7670"/>
                  <a:pt x="18324" y="7691"/>
                  <a:pt x="18306" y="7764"/>
                </a:cubicBezTo>
                <a:cubicBezTo>
                  <a:pt x="18379" y="7782"/>
                  <a:pt x="18444" y="7780"/>
                  <a:pt x="18529" y="7789"/>
                </a:cubicBezTo>
                <a:cubicBezTo>
                  <a:pt x="18635" y="7800"/>
                  <a:pt x="18993" y="7859"/>
                  <a:pt x="18951" y="8037"/>
                </a:cubicBezTo>
                <a:cubicBezTo>
                  <a:pt x="18902" y="8245"/>
                  <a:pt x="18522" y="8159"/>
                  <a:pt x="18405" y="8136"/>
                </a:cubicBezTo>
              </a:path>
              <a:path w="5904" h="1465">
                <a:moveTo>
                  <a:pt x="18703" y="7218"/>
                </a:moveTo>
                <a:cubicBezTo>
                  <a:pt x="18995" y="7365"/>
                  <a:pt x="19252" y="7643"/>
                  <a:pt x="19224" y="8012"/>
                </a:cubicBezTo>
                <a:cubicBezTo>
                  <a:pt x="19212" y="8169"/>
                  <a:pt x="19074" y="8300"/>
                  <a:pt x="18976" y="8409"/>
                </a:cubicBezTo>
              </a:path>
              <a:path w="5904" h="1465">
                <a:moveTo>
                  <a:pt x="19546" y="7218"/>
                </a:moveTo>
                <a:cubicBezTo>
                  <a:pt x="19546" y="7032"/>
                  <a:pt x="19405" y="7507"/>
                  <a:pt x="19372" y="7689"/>
                </a:cubicBezTo>
                <a:cubicBezTo>
                  <a:pt x="19317" y="7988"/>
                  <a:pt x="19361" y="8213"/>
                  <a:pt x="19670" y="8285"/>
                </a:cubicBezTo>
                <a:cubicBezTo>
                  <a:pt x="19720" y="8285"/>
                  <a:pt x="19736" y="8285"/>
                  <a:pt x="19769" y="8285"/>
                </a:cubicBezTo>
              </a:path>
              <a:path w="5904" h="1465">
                <a:moveTo>
                  <a:pt x="19943" y="7689"/>
                </a:moveTo>
                <a:cubicBezTo>
                  <a:pt x="20026" y="7689"/>
                  <a:pt x="20108" y="7689"/>
                  <a:pt x="20191" y="7689"/>
                </a:cubicBezTo>
              </a:path>
              <a:path w="5904" h="1465">
                <a:moveTo>
                  <a:pt x="20389" y="7367"/>
                </a:moveTo>
                <a:cubicBezTo>
                  <a:pt x="20456" y="7361"/>
                  <a:pt x="20791" y="7305"/>
                  <a:pt x="20786" y="7466"/>
                </a:cubicBezTo>
                <a:cubicBezTo>
                  <a:pt x="20783" y="7568"/>
                  <a:pt x="20584" y="7664"/>
                  <a:pt x="20513" y="7714"/>
                </a:cubicBezTo>
                <a:cubicBezTo>
                  <a:pt x="20644" y="7695"/>
                  <a:pt x="20806" y="7633"/>
                  <a:pt x="20910" y="7764"/>
                </a:cubicBezTo>
                <a:cubicBezTo>
                  <a:pt x="21103" y="8007"/>
                  <a:pt x="20772" y="8155"/>
                  <a:pt x="20588" y="8161"/>
                </a:cubicBezTo>
                <a:cubicBezTo>
                  <a:pt x="20211" y="8174"/>
                  <a:pt x="20598" y="7899"/>
                  <a:pt x="20662" y="7838"/>
                </a:cubicBezTo>
              </a:path>
              <a:path w="5904" h="1465">
                <a:moveTo>
                  <a:pt x="20910" y="7069"/>
                </a:moveTo>
                <a:cubicBezTo>
                  <a:pt x="21227" y="7164"/>
                  <a:pt x="21486" y="7490"/>
                  <a:pt x="21456" y="7863"/>
                </a:cubicBezTo>
                <a:cubicBezTo>
                  <a:pt x="21437" y="8107"/>
                  <a:pt x="21221" y="8321"/>
                  <a:pt x="21059" y="8483"/>
                </a:cubicBezTo>
              </a:path>
              <a:path w="5904" h="1465">
                <a:moveTo>
                  <a:pt x="17959" y="7888"/>
                </a:moveTo>
                <a:cubicBezTo>
                  <a:pt x="17951" y="7896"/>
                  <a:pt x="17942" y="7905"/>
                  <a:pt x="17934" y="7913"/>
                </a:cubicBezTo>
                <a:cubicBezTo>
                  <a:pt x="18000" y="7913"/>
                  <a:pt x="18066" y="7913"/>
                  <a:pt x="18132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ry some togeth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-2 (-9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-5 (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3 (-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 3 (-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4120" y="11124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review all operations with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62120" y="2205000"/>
            <a:ext cx="206640" cy="117360"/>
          </a:xfrm>
          <a:custGeom>
            <a:avLst/>
            <a:gdLst/>
            <a:ahLst/>
            <a:rect l="l" t="t" r="r" b="b"/>
            <a:pathLst>
              <a:path w="571" h="323">
                <a:moveTo>
                  <a:pt x="7119" y="6176"/>
                </a:moveTo>
                <a:cubicBezTo>
                  <a:pt x="7230" y="6176"/>
                  <a:pt x="7357" y="6170"/>
                  <a:pt x="7466" y="6152"/>
                </a:cubicBezTo>
                <a:cubicBezTo>
                  <a:pt x="7491" y="6144"/>
                  <a:pt x="7516" y="6135"/>
                  <a:pt x="7541" y="6127"/>
                </a:cubicBezTo>
              </a:path>
              <a:path w="571" h="323">
                <a:moveTo>
                  <a:pt x="7193" y="6449"/>
                </a:moveTo>
                <a:cubicBezTo>
                  <a:pt x="7357" y="6392"/>
                  <a:pt x="7522" y="6347"/>
                  <a:pt x="7689" y="63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78080" y="2170080"/>
            <a:ext cx="28800" cy="268200"/>
          </a:xfrm>
          <a:custGeom>
            <a:avLst/>
            <a:gdLst/>
            <a:ahLst/>
            <a:rect l="l" t="t" r="r" b="b"/>
            <a:pathLst>
              <a:path w="76" h="745">
                <a:moveTo>
                  <a:pt x="8880" y="6028"/>
                </a:moveTo>
                <a:cubicBezTo>
                  <a:pt x="8844" y="6277"/>
                  <a:pt x="8826" y="6499"/>
                  <a:pt x="8855" y="6747"/>
                </a:cubicBezTo>
                <a:cubicBezTo>
                  <a:pt x="8855" y="6794"/>
                  <a:pt x="8867" y="6784"/>
                  <a:pt x="8905" y="66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67080" y="2197080"/>
            <a:ext cx="98280" cy="285840"/>
          </a:xfrm>
          <a:custGeom>
            <a:avLst/>
            <a:gdLst/>
            <a:ahLst/>
            <a:rect l="l" t="t" r="r" b="b"/>
            <a:pathLst>
              <a:path w="274" h="795">
                <a:moveTo>
                  <a:pt x="9624" y="6127"/>
                </a:moveTo>
                <a:cubicBezTo>
                  <a:pt x="9545" y="6126"/>
                  <a:pt x="9435" y="6249"/>
                  <a:pt x="9351" y="6325"/>
                </a:cubicBezTo>
                <a:cubicBezTo>
                  <a:pt x="9435" y="6473"/>
                  <a:pt x="9627" y="6581"/>
                  <a:pt x="9599" y="6772"/>
                </a:cubicBezTo>
                <a:cubicBezTo>
                  <a:pt x="9548" y="6876"/>
                  <a:pt x="9526" y="6910"/>
                  <a:pt x="9426" y="6896"/>
                </a:cubicBezTo>
                <a:cubicBezTo>
                  <a:pt x="9415" y="6648"/>
                  <a:pt x="9552" y="6530"/>
                  <a:pt x="9599" y="6300"/>
                </a:cubicBezTo>
                <a:cubicBezTo>
                  <a:pt x="9577" y="6278"/>
                  <a:pt x="9569" y="6273"/>
                  <a:pt x="9575" y="62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3411360"/>
            <a:ext cx="160560" cy="98640"/>
          </a:xfrm>
          <a:custGeom>
            <a:avLst/>
            <a:gdLst/>
            <a:ahLst/>
            <a:rect l="l" t="t" r="r" b="b"/>
            <a:pathLst>
              <a:path w="447" h="274">
                <a:moveTo>
                  <a:pt x="6772" y="9525"/>
                </a:moveTo>
                <a:cubicBezTo>
                  <a:pt x="6826" y="9522"/>
                  <a:pt x="7062" y="9453"/>
                  <a:pt x="7094" y="9475"/>
                </a:cubicBezTo>
                <a:cubicBezTo>
                  <a:pt x="7094" y="9518"/>
                  <a:pt x="7088" y="9543"/>
                  <a:pt x="7069" y="9575"/>
                </a:cubicBezTo>
              </a:path>
              <a:path w="447" h="274">
                <a:moveTo>
                  <a:pt x="6896" y="9748"/>
                </a:moveTo>
                <a:cubicBezTo>
                  <a:pt x="7012" y="9730"/>
                  <a:pt x="7310" y="9699"/>
                  <a:pt x="7193" y="9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38320" y="3286080"/>
            <a:ext cx="642960" cy="285840"/>
          </a:xfrm>
          <a:custGeom>
            <a:avLst/>
            <a:gdLst/>
            <a:ahLst/>
            <a:rect l="l" t="t" r="r" b="b"/>
            <a:pathLst>
              <a:path w="1787" h="795">
                <a:moveTo>
                  <a:pt x="8806" y="9227"/>
                </a:moveTo>
                <a:cubicBezTo>
                  <a:pt x="8906" y="9207"/>
                  <a:pt x="8925" y="9169"/>
                  <a:pt x="9029" y="9178"/>
                </a:cubicBezTo>
                <a:cubicBezTo>
                  <a:pt x="9019" y="9348"/>
                  <a:pt x="8962" y="9393"/>
                  <a:pt x="8830" y="9525"/>
                </a:cubicBezTo>
                <a:cubicBezTo>
                  <a:pt x="8963" y="9441"/>
                  <a:pt x="9217" y="9448"/>
                  <a:pt x="9153" y="9699"/>
                </a:cubicBezTo>
                <a:cubicBezTo>
                  <a:pt x="9119" y="9833"/>
                  <a:pt x="8742" y="10030"/>
                  <a:pt x="8632" y="9897"/>
                </a:cubicBezTo>
                <a:cubicBezTo>
                  <a:pt x="8640" y="9872"/>
                  <a:pt x="8649" y="9848"/>
                  <a:pt x="8657" y="9823"/>
                </a:cubicBezTo>
              </a:path>
              <a:path w="1787" h="795">
                <a:moveTo>
                  <a:pt x="9798" y="9178"/>
                </a:moveTo>
                <a:cubicBezTo>
                  <a:pt x="9755" y="9178"/>
                  <a:pt x="9578" y="9127"/>
                  <a:pt x="9575" y="9128"/>
                </a:cubicBezTo>
                <a:cubicBezTo>
                  <a:pt x="9536" y="9142"/>
                  <a:pt x="9453" y="9234"/>
                  <a:pt x="9451" y="9277"/>
                </a:cubicBezTo>
                <a:cubicBezTo>
                  <a:pt x="9448" y="9341"/>
                  <a:pt x="9464" y="9370"/>
                  <a:pt x="9475" y="9426"/>
                </a:cubicBezTo>
                <a:cubicBezTo>
                  <a:pt x="9590" y="9407"/>
                  <a:pt x="9760" y="9360"/>
                  <a:pt x="9872" y="9426"/>
                </a:cubicBezTo>
                <a:cubicBezTo>
                  <a:pt x="10103" y="9562"/>
                  <a:pt x="9781" y="9767"/>
                  <a:pt x="9649" y="9773"/>
                </a:cubicBezTo>
                <a:cubicBezTo>
                  <a:pt x="9538" y="9778"/>
                  <a:pt x="9497" y="9763"/>
                  <a:pt x="9475" y="9699"/>
                </a:cubicBezTo>
              </a:path>
              <a:path w="1787" h="795">
                <a:moveTo>
                  <a:pt x="8161" y="9277"/>
                </a:moveTo>
                <a:cubicBezTo>
                  <a:pt x="8248" y="9241"/>
                  <a:pt x="8347" y="9165"/>
                  <a:pt x="8434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4599000"/>
            <a:ext cx="98640" cy="81000"/>
          </a:xfrm>
          <a:custGeom>
            <a:avLst/>
            <a:gdLst/>
            <a:ahLst/>
            <a:rect l="l" t="t" r="r" b="b"/>
            <a:pathLst>
              <a:path w="274" h="225">
                <a:moveTo>
                  <a:pt x="6772" y="12774"/>
                </a:moveTo>
                <a:cubicBezTo>
                  <a:pt x="6838" y="12774"/>
                  <a:pt x="6977" y="12744"/>
                  <a:pt x="6995" y="12799"/>
                </a:cubicBezTo>
              </a:path>
              <a:path w="274" h="225">
                <a:moveTo>
                  <a:pt x="6772" y="12998"/>
                </a:moveTo>
                <a:cubicBezTo>
                  <a:pt x="6861" y="12982"/>
                  <a:pt x="6956" y="12961"/>
                  <a:pt x="7045" y="129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6680" y="4518000"/>
            <a:ext cx="241200" cy="22392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8310" y="12551"/>
                </a:moveTo>
                <a:cubicBezTo>
                  <a:pt x="8353" y="12746"/>
                  <a:pt x="8359" y="12919"/>
                  <a:pt x="8359" y="13122"/>
                </a:cubicBezTo>
                <a:cubicBezTo>
                  <a:pt x="8359" y="13181"/>
                  <a:pt x="8362" y="13188"/>
                  <a:pt x="8384" y="13097"/>
                </a:cubicBezTo>
              </a:path>
              <a:path w="671" h="621">
                <a:moveTo>
                  <a:pt x="7714" y="12725"/>
                </a:moveTo>
                <a:cubicBezTo>
                  <a:pt x="7799" y="12720"/>
                  <a:pt x="7878" y="12709"/>
                  <a:pt x="7962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0160" y="4446720"/>
            <a:ext cx="187560" cy="268200"/>
          </a:xfrm>
          <a:custGeom>
            <a:avLst/>
            <a:gdLst/>
            <a:ahLst/>
            <a:rect l="l" t="t" r="r" b="b"/>
            <a:pathLst>
              <a:path w="522" h="745">
                <a:moveTo>
                  <a:pt x="9252" y="12353"/>
                </a:moveTo>
                <a:cubicBezTo>
                  <a:pt x="9147" y="12492"/>
                  <a:pt x="9023" y="12471"/>
                  <a:pt x="8855" y="12477"/>
                </a:cubicBezTo>
                <a:cubicBezTo>
                  <a:pt x="8810" y="12479"/>
                  <a:pt x="8824" y="12594"/>
                  <a:pt x="8830" y="12626"/>
                </a:cubicBezTo>
                <a:cubicBezTo>
                  <a:pt x="8853" y="12693"/>
                  <a:pt x="8864" y="12711"/>
                  <a:pt x="8830" y="12750"/>
                </a:cubicBezTo>
                <a:cubicBezTo>
                  <a:pt x="8963" y="12728"/>
                  <a:pt x="9082" y="12594"/>
                  <a:pt x="9227" y="12650"/>
                </a:cubicBezTo>
                <a:cubicBezTo>
                  <a:pt x="9489" y="12752"/>
                  <a:pt x="9266" y="13074"/>
                  <a:pt x="9079" y="13097"/>
                </a:cubicBezTo>
                <a:cubicBezTo>
                  <a:pt x="9023" y="13104"/>
                  <a:pt x="8882" y="13072"/>
                  <a:pt x="8806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00200" y="5742000"/>
            <a:ext cx="179640" cy="115920"/>
          </a:xfrm>
          <a:custGeom>
            <a:avLst/>
            <a:gdLst/>
            <a:ahLst/>
            <a:rect l="l" t="t" r="r" b="b"/>
            <a:pathLst>
              <a:path w="497" h="324">
                <a:moveTo>
                  <a:pt x="6945" y="16049"/>
                </a:moveTo>
                <a:cubicBezTo>
                  <a:pt x="7056" y="16005"/>
                  <a:pt x="7176" y="15974"/>
                  <a:pt x="7293" y="15949"/>
                </a:cubicBezTo>
                <a:cubicBezTo>
                  <a:pt x="7317" y="15949"/>
                  <a:pt x="7325" y="15949"/>
                  <a:pt x="7317" y="15974"/>
                </a:cubicBezTo>
              </a:path>
              <a:path w="497" h="324">
                <a:moveTo>
                  <a:pt x="7169" y="16272"/>
                </a:moveTo>
                <a:cubicBezTo>
                  <a:pt x="7260" y="16245"/>
                  <a:pt x="7350" y="16214"/>
                  <a:pt x="7441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55960" y="5742000"/>
            <a:ext cx="231840" cy="196920"/>
          </a:xfrm>
          <a:custGeom>
            <a:avLst/>
            <a:gdLst/>
            <a:ahLst/>
            <a:rect l="l" t="t" r="r" b="b"/>
            <a:pathLst>
              <a:path w="646" h="547">
                <a:moveTo>
                  <a:pt x="8806" y="15949"/>
                </a:moveTo>
                <a:cubicBezTo>
                  <a:pt x="8880" y="15975"/>
                  <a:pt x="8859" y="16244"/>
                  <a:pt x="8855" y="16297"/>
                </a:cubicBezTo>
                <a:cubicBezTo>
                  <a:pt x="8852" y="16342"/>
                  <a:pt x="8839" y="16506"/>
                  <a:pt x="8806" y="16470"/>
                </a:cubicBezTo>
              </a:path>
              <a:path w="646" h="547">
                <a:moveTo>
                  <a:pt x="8210" y="16173"/>
                </a:moveTo>
                <a:cubicBezTo>
                  <a:pt x="8227" y="16222"/>
                  <a:pt x="8301" y="16219"/>
                  <a:pt x="8359" y="16222"/>
                </a:cubicBezTo>
                <a:cubicBezTo>
                  <a:pt x="8401" y="16222"/>
                  <a:pt x="8409" y="16222"/>
                  <a:pt x="8434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30720" y="5705640"/>
            <a:ext cx="169560" cy="23328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9252" y="15850"/>
                </a:moveTo>
                <a:cubicBezTo>
                  <a:pt x="9508" y="15894"/>
                  <a:pt x="9647" y="16002"/>
                  <a:pt x="9525" y="16297"/>
                </a:cubicBezTo>
                <a:cubicBezTo>
                  <a:pt x="9462" y="16450"/>
                  <a:pt x="9406" y="16483"/>
                  <a:pt x="9277" y="16470"/>
                </a:cubicBezTo>
                <a:cubicBezTo>
                  <a:pt x="9270" y="16370"/>
                  <a:pt x="9296" y="16152"/>
                  <a:pt x="9475" y="16197"/>
                </a:cubicBezTo>
                <a:cubicBezTo>
                  <a:pt x="9537" y="16213"/>
                  <a:pt x="9727" y="16366"/>
                  <a:pt x="9723" y="16421"/>
                </a:cubicBezTo>
                <a:cubicBezTo>
                  <a:pt x="9715" y="16437"/>
                  <a:pt x="9707" y="16454"/>
                  <a:pt x="9699" y="164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ing Inte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Rules: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Same Sig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swer is Positiv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fferent sig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swer is Negativ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120" y="19224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review all operations with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ry some togeth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15880" y="1657440"/>
          <a:ext cx="67320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5880" y="1657440"/>
                    <a:ext cx="6732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95280" y="2908440"/>
          <a:ext cx="143532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908440"/>
                    <a:ext cx="1435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359000" y="3822840"/>
          <a:ext cx="67284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59000" y="3822840"/>
                    <a:ext cx="6728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276720" y="2057400"/>
          <a:ext cx="914400" cy="26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2057400"/>
                    <a:ext cx="9144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187280" y="5124600"/>
          <a:ext cx="161316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7280" y="5124600"/>
                    <a:ext cx="1613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78320" y="22860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review all operations with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62120" y="2133720"/>
            <a:ext cx="162000" cy="117360"/>
          </a:xfrm>
          <a:custGeom>
            <a:avLst/>
            <a:gdLst/>
            <a:ahLst/>
            <a:rect l="l" t="t" r="r" b="b"/>
            <a:pathLst>
              <a:path w="447" h="324">
                <a:moveTo>
                  <a:pt x="7169" y="5978"/>
                </a:moveTo>
                <a:cubicBezTo>
                  <a:pt x="7161" y="5970"/>
                  <a:pt x="7152" y="5961"/>
                  <a:pt x="7144" y="5953"/>
                </a:cubicBezTo>
                <a:cubicBezTo>
                  <a:pt x="7244" y="5953"/>
                  <a:pt x="7340" y="5931"/>
                  <a:pt x="7441" y="5928"/>
                </a:cubicBezTo>
                <a:cubicBezTo>
                  <a:pt x="7458" y="5928"/>
                  <a:pt x="7474" y="5928"/>
                  <a:pt x="7491" y="5928"/>
                </a:cubicBezTo>
              </a:path>
              <a:path w="447" h="324">
                <a:moveTo>
                  <a:pt x="7119" y="6251"/>
                </a:moveTo>
                <a:cubicBezTo>
                  <a:pt x="7272" y="6251"/>
                  <a:pt x="7412" y="6241"/>
                  <a:pt x="7565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82960" y="2081160"/>
            <a:ext cx="419040" cy="365040"/>
          </a:xfrm>
          <a:custGeom>
            <a:avLst/>
            <a:gdLst/>
            <a:ahLst/>
            <a:rect l="l" t="t" r="r" b="b"/>
            <a:pathLst>
              <a:path w="1167" h="1018">
                <a:moveTo>
                  <a:pt x="8954" y="6003"/>
                </a:moveTo>
                <a:cubicBezTo>
                  <a:pt x="8886" y="6139"/>
                  <a:pt x="8870" y="6177"/>
                  <a:pt x="8806" y="6251"/>
                </a:cubicBezTo>
                <a:cubicBezTo>
                  <a:pt x="9022" y="6282"/>
                  <a:pt x="9232" y="6176"/>
                  <a:pt x="9451" y="6176"/>
                </a:cubicBezTo>
                <a:cubicBezTo>
                  <a:pt x="9443" y="6184"/>
                  <a:pt x="9434" y="6193"/>
                  <a:pt x="9426" y="6201"/>
                </a:cubicBezTo>
              </a:path>
              <a:path w="1167" h="1018">
                <a:moveTo>
                  <a:pt x="9376" y="5779"/>
                </a:moveTo>
                <a:cubicBezTo>
                  <a:pt x="9311" y="6110"/>
                  <a:pt x="9242" y="6435"/>
                  <a:pt x="9227" y="6772"/>
                </a:cubicBezTo>
                <a:cubicBezTo>
                  <a:pt x="9227" y="6796"/>
                  <a:pt x="9227" y="6804"/>
                  <a:pt x="9227" y="6772"/>
                </a:cubicBezTo>
              </a:path>
              <a:path w="1167" h="1018">
                <a:moveTo>
                  <a:pt x="8285" y="6003"/>
                </a:moveTo>
                <a:cubicBezTo>
                  <a:pt x="8301" y="5954"/>
                  <a:pt x="8377" y="5978"/>
                  <a:pt x="8434" y="5978"/>
                </a:cubicBezTo>
                <a:cubicBezTo>
                  <a:pt x="8498" y="5978"/>
                  <a:pt x="8483" y="5976"/>
                  <a:pt x="8483" y="60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63880" y="3170160"/>
            <a:ext cx="393840" cy="152640"/>
          </a:xfrm>
          <a:custGeom>
            <a:avLst/>
            <a:gdLst/>
            <a:ahLst/>
            <a:rect l="l" t="t" r="r" b="b"/>
            <a:pathLst>
              <a:path w="1093" h="422">
                <a:moveTo>
                  <a:pt x="8260" y="9004"/>
                </a:moveTo>
                <a:cubicBezTo>
                  <a:pt x="8364" y="9004"/>
                  <a:pt x="8459" y="8973"/>
                  <a:pt x="8558" y="8954"/>
                </a:cubicBezTo>
                <a:cubicBezTo>
                  <a:pt x="8586" y="8954"/>
                  <a:pt x="8591" y="8957"/>
                  <a:pt x="8558" y="8979"/>
                </a:cubicBezTo>
              </a:path>
              <a:path w="1093" h="422">
                <a:moveTo>
                  <a:pt x="8235" y="9227"/>
                </a:moveTo>
                <a:cubicBezTo>
                  <a:pt x="8343" y="9227"/>
                  <a:pt x="8450" y="9227"/>
                  <a:pt x="8558" y="9227"/>
                </a:cubicBezTo>
              </a:path>
              <a:path w="1093" h="422">
                <a:moveTo>
                  <a:pt x="8954" y="8855"/>
                </a:moveTo>
                <a:cubicBezTo>
                  <a:pt x="8998" y="8789"/>
                  <a:pt x="9211" y="8809"/>
                  <a:pt x="9302" y="8806"/>
                </a:cubicBezTo>
                <a:cubicBezTo>
                  <a:pt x="9310" y="8806"/>
                  <a:pt x="9319" y="8806"/>
                  <a:pt x="9327" y="88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71920" y="3017880"/>
            <a:ext cx="214200" cy="366840"/>
          </a:xfrm>
          <a:custGeom>
            <a:avLst/>
            <a:gdLst/>
            <a:ahLst/>
            <a:rect l="l" t="t" r="r" b="b"/>
            <a:pathLst>
              <a:path w="596" h="1018">
                <a:moveTo>
                  <a:pt x="10096" y="8682"/>
                </a:moveTo>
                <a:cubicBezTo>
                  <a:pt x="10053" y="8788"/>
                  <a:pt x="9978" y="8922"/>
                  <a:pt x="9922" y="9029"/>
                </a:cubicBezTo>
                <a:cubicBezTo>
                  <a:pt x="10108" y="9042"/>
                  <a:pt x="10324" y="8923"/>
                  <a:pt x="10517" y="8954"/>
                </a:cubicBezTo>
                <a:cubicBezTo>
                  <a:pt x="10517" y="8962"/>
                  <a:pt x="10517" y="8971"/>
                  <a:pt x="10517" y="8979"/>
                </a:cubicBezTo>
              </a:path>
              <a:path w="596" h="1018">
                <a:moveTo>
                  <a:pt x="10517" y="8384"/>
                </a:moveTo>
                <a:cubicBezTo>
                  <a:pt x="10483" y="8723"/>
                  <a:pt x="10420" y="9022"/>
                  <a:pt x="10344" y="9351"/>
                </a:cubicBezTo>
                <a:cubicBezTo>
                  <a:pt x="10344" y="9368"/>
                  <a:pt x="10344" y="9384"/>
                  <a:pt x="10344" y="94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70120" y="4268880"/>
            <a:ext cx="135000" cy="27000"/>
          </a:xfrm>
          <a:custGeom>
            <a:avLst/>
            <a:gdLst/>
            <a:ahLst/>
            <a:rect l="l" t="t" r="r" b="b"/>
            <a:pathLst>
              <a:path w="373" h="75">
                <a:moveTo>
                  <a:pt x="7417" y="11931"/>
                </a:moveTo>
                <a:cubicBezTo>
                  <a:pt x="7514" y="11875"/>
                  <a:pt x="7624" y="11862"/>
                  <a:pt x="7739" y="11857"/>
                </a:cubicBezTo>
                <a:cubicBezTo>
                  <a:pt x="7780" y="11857"/>
                  <a:pt x="7797" y="11848"/>
                  <a:pt x="7789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97120" y="4394160"/>
            <a:ext cx="9864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7491" y="12204"/>
                </a:moveTo>
                <a:cubicBezTo>
                  <a:pt x="7582" y="12204"/>
                  <a:pt x="7673" y="12204"/>
                  <a:pt x="7764" y="122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17920" y="4143240"/>
            <a:ext cx="233280" cy="357480"/>
          </a:xfrm>
          <a:custGeom>
            <a:avLst/>
            <a:gdLst/>
            <a:ahLst/>
            <a:rect l="l" t="t" r="r" b="b"/>
            <a:pathLst>
              <a:path w="646" h="994">
                <a:moveTo>
                  <a:pt x="10046" y="11559"/>
                </a:moveTo>
                <a:cubicBezTo>
                  <a:pt x="10008" y="11559"/>
                  <a:pt x="10310" y="11470"/>
                  <a:pt x="10368" y="11509"/>
                </a:cubicBezTo>
                <a:cubicBezTo>
                  <a:pt x="10576" y="11650"/>
                  <a:pt x="10264" y="11907"/>
                  <a:pt x="10170" y="11981"/>
                </a:cubicBezTo>
                <a:cubicBezTo>
                  <a:pt x="10149" y="11899"/>
                  <a:pt x="10339" y="11871"/>
                  <a:pt x="10393" y="11981"/>
                </a:cubicBezTo>
                <a:cubicBezTo>
                  <a:pt x="10544" y="12289"/>
                  <a:pt x="10176" y="12510"/>
                  <a:pt x="9922" y="12502"/>
                </a:cubicBezTo>
                <a:cubicBezTo>
                  <a:pt x="9815" y="12466"/>
                  <a:pt x="9765" y="12493"/>
                  <a:pt x="9773" y="124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7160" y="5357880"/>
            <a:ext cx="160560" cy="115920"/>
          </a:xfrm>
          <a:custGeom>
            <a:avLst/>
            <a:gdLst/>
            <a:ahLst/>
            <a:rect l="l" t="t" r="r" b="b"/>
            <a:pathLst>
              <a:path w="448" h="323">
                <a:moveTo>
                  <a:pt x="8880" y="14957"/>
                </a:moveTo>
                <a:cubicBezTo>
                  <a:pt x="8980" y="14957"/>
                  <a:pt x="9080" y="14928"/>
                  <a:pt x="9178" y="14908"/>
                </a:cubicBezTo>
                <a:cubicBezTo>
                  <a:pt x="9269" y="14890"/>
                  <a:pt x="9276" y="14881"/>
                  <a:pt x="9327" y="14883"/>
                </a:cubicBezTo>
              </a:path>
              <a:path w="448" h="323">
                <a:moveTo>
                  <a:pt x="8954" y="15180"/>
                </a:moveTo>
                <a:cubicBezTo>
                  <a:pt x="9040" y="15187"/>
                  <a:pt x="9116" y="15205"/>
                  <a:pt x="9203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6040" y="5303880"/>
            <a:ext cx="169920" cy="322200"/>
          </a:xfrm>
          <a:custGeom>
            <a:avLst/>
            <a:gdLst/>
            <a:ahLst/>
            <a:rect l="l" t="t" r="r" b="b"/>
            <a:pathLst>
              <a:path w="473" h="894">
                <a:moveTo>
                  <a:pt x="11385" y="14784"/>
                </a:moveTo>
                <a:cubicBezTo>
                  <a:pt x="11369" y="14735"/>
                  <a:pt x="11349" y="14751"/>
                  <a:pt x="11311" y="14759"/>
                </a:cubicBezTo>
                <a:cubicBezTo>
                  <a:pt x="11204" y="14783"/>
                  <a:pt x="11176" y="14799"/>
                  <a:pt x="11088" y="14883"/>
                </a:cubicBezTo>
                <a:cubicBezTo>
                  <a:pt x="11025" y="14945"/>
                  <a:pt x="11007" y="14955"/>
                  <a:pt x="10988" y="15007"/>
                </a:cubicBezTo>
                <a:cubicBezTo>
                  <a:pt x="11120" y="15123"/>
                  <a:pt x="11367" y="15129"/>
                  <a:pt x="11410" y="15354"/>
                </a:cubicBezTo>
                <a:cubicBezTo>
                  <a:pt x="11387" y="15516"/>
                  <a:pt x="11387" y="15566"/>
                  <a:pt x="11286" y="15627"/>
                </a:cubicBezTo>
                <a:cubicBezTo>
                  <a:pt x="11164" y="15441"/>
                  <a:pt x="11324" y="15231"/>
                  <a:pt x="11410" y="15032"/>
                </a:cubicBezTo>
                <a:cubicBezTo>
                  <a:pt x="11484" y="14861"/>
                  <a:pt x="11459" y="14953"/>
                  <a:pt x="11435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8040" y="2652840"/>
            <a:ext cx="3197160" cy="276120"/>
          </a:xfrm>
          <a:custGeom>
            <a:avLst/>
            <a:gdLst/>
            <a:ahLst/>
            <a:rect l="l" t="t" r="r" b="b"/>
            <a:pathLst>
              <a:path w="8881" h="770">
                <a:moveTo>
                  <a:pt x="1786" y="7466"/>
                </a:moveTo>
                <a:cubicBezTo>
                  <a:pt x="1794" y="7479"/>
                  <a:pt x="1457" y="7414"/>
                  <a:pt x="1786" y="7541"/>
                </a:cubicBezTo>
                <a:cubicBezTo>
                  <a:pt x="2123" y="7671"/>
                  <a:pt x="2596" y="7431"/>
                  <a:pt x="2977" y="7491"/>
                </a:cubicBezTo>
                <a:cubicBezTo>
                  <a:pt x="3246" y="7533"/>
                  <a:pt x="3291" y="7544"/>
                  <a:pt x="3547" y="7466"/>
                </a:cubicBezTo>
                <a:cubicBezTo>
                  <a:pt x="3790" y="7392"/>
                  <a:pt x="4037" y="7377"/>
                  <a:pt x="4291" y="7367"/>
                </a:cubicBezTo>
                <a:cubicBezTo>
                  <a:pt x="4548" y="7357"/>
                  <a:pt x="4805" y="7364"/>
                  <a:pt x="5060" y="7392"/>
                </a:cubicBezTo>
                <a:cubicBezTo>
                  <a:pt x="5402" y="7429"/>
                  <a:pt x="5766" y="7406"/>
                  <a:pt x="6102" y="7466"/>
                </a:cubicBezTo>
                <a:cubicBezTo>
                  <a:pt x="6443" y="7527"/>
                  <a:pt x="6774" y="7589"/>
                  <a:pt x="7119" y="7640"/>
                </a:cubicBezTo>
                <a:cubicBezTo>
                  <a:pt x="7485" y="7694"/>
                  <a:pt x="7811" y="7785"/>
                  <a:pt x="8186" y="7813"/>
                </a:cubicBezTo>
                <a:cubicBezTo>
                  <a:pt x="8583" y="7843"/>
                  <a:pt x="8980" y="7863"/>
                  <a:pt x="9376" y="7888"/>
                </a:cubicBezTo>
                <a:cubicBezTo>
                  <a:pt x="9615" y="7903"/>
                  <a:pt x="10307" y="7902"/>
                  <a:pt x="10492" y="8012"/>
                </a:cubicBezTo>
                <a:cubicBezTo>
                  <a:pt x="10563" y="8059"/>
                  <a:pt x="10588" y="8070"/>
                  <a:pt x="10567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2:33:28Z</dcterms:created>
  <dc:creator>Brian McGrath</dc:creator>
  <dc:description/>
  <dc:language>en-US</dc:language>
  <cp:lastModifiedBy>deanne elizabeth mcgrath</cp:lastModifiedBy>
  <dcterms:modified xsi:type="dcterms:W3CDTF">2011-04-07T13:20:20Z</dcterms:modified>
  <cp:revision>2</cp:revision>
  <dc:subject/>
  <dc:title>Warm-up:</dc:title>
</cp:coreProperties>
</file>